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1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2D5-E370-4A62-9E57-BF4C7919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34E-443D-4037-8108-67AC4BAA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1DA-9BE1-4F0B-8821-B8B0BD5A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FB6-8C45-4A2B-A48D-7968CE9D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1D1-2A45-4E80-AA84-13F603D7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89D-C087-4ED6-910C-0A7637E6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EC0A-A0A3-4555-B817-5FD44D66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91B-F428-493B-84EF-F4D508D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9A65-BDA4-4616-A04F-6DDC6BB4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967E-0C36-45AA-B9A3-D2B17E01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2B8-AABF-4E1D-871D-FC86256D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D3F-A1C8-4C2F-B9BF-74F28D3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A53-F83A-458B-B226-42AD4EA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BFA9-8602-4F94-A075-BA0BB67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B57-B51B-47FB-8BF9-DBCF45F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CB07-3182-4115-A262-1B038AAA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398-A915-4C96-929F-85A7F1FE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808-1464-43CD-8918-0222AC9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D63-8685-4CAA-875A-5BA5589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D9F-1583-4AB1-A68D-699311D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453-4E52-49A3-9BA8-09A6B64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972-B203-49BE-A763-77680B1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273-68D0-43E2-8CDA-20CBAEB5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ABD-4CC1-44F6-808F-51FFBCE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65BB-4022-4568-BEDC-23D3B87B3C6C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7196-6186-44C4-A8B4-B5B893F0FD21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kaking@hoover.k12.al.us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eet Shelby the Shelf Marker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tart digging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t would take a long time to find a book if you have to dig through a mess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8" name="Picture 9" descr="MVC-012S"/>
          <p:cNvPicPr/>
          <p:nvPr/>
        </p:nvPicPr>
        <p:blipFill>
          <a:blip r:embed="rId1"/>
          <a:srcRect l="0" t="0" r="5480" b="25764"/>
          <a:stretch/>
        </p:blipFill>
        <p:spPr>
          <a:xfrm>
            <a:off x="685800" y="2922480"/>
            <a:ext cx="384804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Found i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But if the books are in order, you can find the book you want FAST!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You go, girl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1" name="Picture 10" descr="MVC-013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y librarians work so hard to get books in order, and keep them that way.  They want you to find that special book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3" name="Picture 10" descr="MVC-014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’m going to miss recess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o likes to dig through a mess?  Who has tim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6" name="Picture 9" descr="MVC-012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y I’m so important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8" name="Picture 9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 mark a book’s place on the shelf while you look at it.  But let me start from the beginning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0" name="Picture 9" descr="MVC-015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t takes time to find a good book to rea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2" name="Picture 11" descr="MVC-01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e firs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en you find a book that looks interesting, put me on the shelf next to i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5" name="Picture 10" descr="MVC-018S"/>
          <p:cNvPicPr/>
          <p:nvPr/>
        </p:nvPicPr>
        <p:blipFill>
          <a:blip r:embed="rId1"/>
          <a:stretch/>
        </p:blipFill>
        <p:spPr>
          <a:xfrm>
            <a:off x="838080" y="28386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Don’t let me fall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on’t pull out the book until I’m safely on the shelf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8" name="Picture 16" descr="MVC-01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elp!  I’m falling!  OUCH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0" name="Picture 11" descr="MVC-020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elcom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i!  I’m Shelby the Shelf Marker.  Welcome to the library media center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7" name="Picture 15" descr="MVC-001S"/>
          <p:cNvPicPr/>
          <p:nvPr/>
        </p:nvPicPr>
        <p:blipFill>
          <a:blip r:embed="rId1"/>
          <a:stretch/>
        </p:blipFill>
        <p:spPr>
          <a:xfrm>
            <a:off x="609480" y="2624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nce you know I’m in place, then you can pull out the book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2" name="Picture 12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is spot is saved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ile you look at a book, I’m saving your place on the shelf.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5" name="Picture 9" descr="MVC-01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ome, sweet home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6912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you decide you don’t want the book, I remind you where it belongs.  I’m sitting in the book’s special spot.  I’m protecting its home until the book is returne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8" name="Picture 16" descr="MCj04063780000[1]"/>
          <p:cNvPicPr/>
          <p:nvPr/>
        </p:nvPicPr>
        <p:blipFill>
          <a:blip r:embed="rId1"/>
          <a:stretch/>
        </p:blipFill>
        <p:spPr>
          <a:xfrm>
            <a:off x="6012000" y="1197000"/>
            <a:ext cx="208728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Book first, me las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nce you decide you don’t want the book, put it back hom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BEFORE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you take me off the shelf.  This time, I’M LAST!”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1" name="Picture 9" descr="MVC-021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MCj03556410000[1]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65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5"/>
          <p:cNvSpPr/>
          <p:nvPr/>
        </p:nvSpPr>
        <p:spPr>
          <a:xfrm>
            <a:off x="900000" y="2997360"/>
            <a:ext cx="741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NEVER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put a book back on the shelf without me marking its home.  Only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librarians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can do that.  Are you a librarian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Don’t leave me behind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If you decide to check out the book, take me with you.  I don’t need to stay on the shelf if you are going to check it out.  Take me with you to the computer and check out.”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6" name="Picture 9" descr="MVC-022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Keep me busy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eturn me to my special spot in the library so I can help another friend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49" name="Picture 12" descr="MVC-86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emember!  Books like to go home, just like you do.”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1" name="Picture 9" descr="MVC-004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s there room on the shelf for this book?  Sure, but this is not its home.  I’m not saving its place, so don’t put your book here.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3" name="Picture 13" descr="MVC-005S"/>
          <p:cNvPicPr/>
          <p:nvPr/>
        </p:nvPicPr>
        <p:blipFill>
          <a:blip r:embed="rId1"/>
          <a:srcRect l="10004" t="0" r="0" b="10000"/>
          <a:stretch/>
        </p:blipFill>
        <p:spPr>
          <a:xfrm>
            <a:off x="762120" y="2671920"/>
            <a:ext cx="39243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ave Your Valuable Brai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6120" y="2057400"/>
            <a:ext cx="384804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et me do my job!  Let me remind you where the book belongs so you don’t have to remember.  You need to save your brain for more important information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6" name="Picture 10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Neat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ere are a lot of books in our library.  Doesn’t it look neat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0" name="Picture 1034" descr="MVC-002S"/>
          <p:cNvPicPr/>
          <p:nvPr/>
        </p:nvPicPr>
        <p:blipFill>
          <a:blip r:embed="rId1"/>
          <a:stretch/>
        </p:blipFill>
        <p:spPr>
          <a:xfrm>
            <a:off x="723960" y="26575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Let’s pretend…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hat if your teacher puts you on a bus this afternoon and tells the driver to drop you off at a stranger’s house?  Do you want to go home to a stranger’s house?”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59" name="Picture 9" descr="MPj03997650000[1]"/>
          <p:cNvPicPr/>
          <p:nvPr/>
        </p:nvPicPr>
        <p:blipFill>
          <a:blip r:embed="rId1"/>
          <a:stretch/>
        </p:blipFill>
        <p:spPr>
          <a:xfrm>
            <a:off x="685800" y="2774880"/>
            <a:ext cx="3848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NO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you’re dropped off at a stranger’s house and not at home, your family will worry and think you’re los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2" name="Picture 9" descr="MPj04002940000[1]"/>
          <p:cNvPicPr/>
          <p:nvPr/>
        </p:nvPicPr>
        <p:blipFill>
          <a:blip r:embed="rId1"/>
          <a:stretch/>
        </p:blipFill>
        <p:spPr>
          <a:xfrm>
            <a:off x="685800" y="2774880"/>
            <a:ext cx="3848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f a book is not returned to its home, we think it’s los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4" name="Picture 8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MPj01788440000[1]"/>
          <p:cNvPicPr/>
          <p:nvPr/>
        </p:nvPicPr>
        <p:blipFill>
          <a:blip r:embed="rId1"/>
          <a:stretch/>
        </p:blipFill>
        <p:spPr>
          <a:xfrm>
            <a:off x="2484360" y="2421000"/>
            <a:ext cx="4324320" cy="286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Boo-hoo!  Where’s my book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h!  Home Sweet Home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Just like you, every book has a home.  Books belong at home until someone checks it out.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69" name="Picture 10" descr="MVC-008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  <p:sp>
        <p:nvSpPr>
          <p:cNvPr id="170" name="Line 11"/>
          <p:cNvSpPr/>
          <p:nvPr/>
        </p:nvSpPr>
        <p:spPr>
          <a:xfrm flipH="1">
            <a:off x="2286000" y="2286000"/>
            <a:ext cx="8380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6120" y="907560"/>
            <a:ext cx="384804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peak up for books!  Help us keep them in order and at home until they are checked out.  Please don’t let the poor little books get lost from their homes!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72" name="Picture 9" descr="MVC-00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Rocky Ridge Elementary School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Hoover, Alabama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Karen King, Library Media Specialist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Special thanks to Microsoft for their excellent selection of PowerPoint designs.  Librarians are welcome to link to this page.  Your comments and suggestions are welcome.  My e-mail address is:  </a:t>
            </a:r>
            <a:r>
              <a:rPr b="0" lang="en-US" sz="1000" spc="-1" strike="noStrike" u="sng">
                <a:solidFill>
                  <a:srgbClr val="d1b4c8"/>
                </a:solidFill>
                <a:uFillTx/>
                <a:latin typeface="Tahoma"/>
                <a:hlinkClick r:id="rId1"/>
              </a:rPr>
              <a:t>kaking@hoover.k12.al.us</a:t>
            </a:r>
            <a:r>
              <a:rPr b="0" lang="en-US" sz="1000" spc="-1" strike="noStrike">
                <a:solidFill>
                  <a:srgbClr val="5a867b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371600" y="2286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imes New Roman"/>
              </a:rPr>
              <a:t>Please press your browser’s </a:t>
            </a:r>
            <a:r>
              <a:rPr b="1" lang="en-US" sz="3200" spc="-1" strike="noStrike">
                <a:solidFill>
                  <a:srgbClr val="5a867b"/>
                </a:solidFill>
                <a:latin typeface="Times New Roman"/>
              </a:rPr>
              <a:t>BACK</a:t>
            </a:r>
            <a:r>
              <a:rPr b="0" lang="en-US" sz="3200" spc="-1" strike="noStrike">
                <a:solidFill>
                  <a:srgbClr val="5a867b"/>
                </a:solidFill>
                <a:latin typeface="Times New Roman"/>
              </a:rPr>
              <a:t> button to return to the main web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ow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But think what would happen if the books wer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THROWN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into a pil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3" name="Picture 10" descr="MVC-004S"/>
          <p:cNvPicPr/>
          <p:nvPr/>
        </p:nvPicPr>
        <p:blipFill>
          <a:blip r:embed="rId1"/>
          <a:stretch/>
        </p:blipFill>
        <p:spPr>
          <a:xfrm>
            <a:off x="609480" y="261000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Ugh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r, what if the books were </a:t>
            </a: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STUFFED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 into the bookcas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Picture 11" descr="MVC-005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elp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ow would you find anything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9" name="Picture 10" descr="MVC-006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at’s where I comes in.  It’s my job to help keep the books in order.  (I’m VERY important, but I try not to act like it!)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1" name="Picture 10" descr="MVC-007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427640" y="213372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You may be asking, “Why do the librarians keep the library so NEAT?  Why don’t they just put the books anywhere?”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3" name="Picture 12" descr="MCDD00864_0000[1]"/>
          <p:cNvPicPr/>
          <p:nvPr/>
        </p:nvPicPr>
        <p:blipFill>
          <a:blip r:embed="rId1"/>
          <a:stretch/>
        </p:blipFill>
        <p:spPr>
          <a:xfrm>
            <a:off x="611280" y="2421000"/>
            <a:ext cx="35575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ibrarians have to keep the books in a special order so you can find the books you want when you want them. 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Picture 11" descr="MVC-009S"/>
          <p:cNvPicPr/>
          <p:nvPr/>
        </p:nvPicPr>
        <p:blipFill>
          <a:blip r:embed="rId1"/>
          <a:stretch/>
        </p:blipFill>
        <p:spPr>
          <a:xfrm>
            <a:off x="685800" y="2614680"/>
            <a:ext cx="384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15:34:22Z</dcterms:created>
  <dc:creator>Valued Gateway Client</dc:creator>
  <dc:description/>
  <dc:language>en-US</dc:language>
  <cp:lastModifiedBy>Gerber's</cp:lastModifiedBy>
  <dcterms:modified xsi:type="dcterms:W3CDTF">2011-08-12T02:15:33Z</dcterms:modified>
  <cp:revision>29</cp:revision>
  <dc:subject/>
  <dc:title>Using Shelf Markers</dc:title>
</cp:coreProperties>
</file>